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6DD6-A18F-4502-9FFC-0C021E79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AE0D-9E91-491A-9A39-E47BFF29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21F5-299D-4D59-8341-9455E63E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3AF3-A3FE-4D2B-A2A1-D11E7A82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A635-889D-49E6-A25E-C6D143C7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9589-FC7B-45D9-9B37-572F1F6F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EEAE-470F-453A-9EE1-17814CFA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E437-90EA-4CC6-B24B-FDCCFED4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7376-7D02-4119-A72C-C033A62B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54EF-8278-45A2-B349-F4ACA4ED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EFF6-BD90-4BF7-9190-92804BE8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2BAF-0D89-4A87-8F82-941EDBF1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3301-131B-4FCA-8268-2B49748F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57FF-AB14-42A8-81CB-60D01DBC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245F-AA80-4B75-8C4A-27A88D76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3078-D586-430B-B44C-C389D071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8555-FEE4-4EEC-8A5C-F9EF2674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6C0C-8353-4BD5-9AA6-68EE41E9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E908-A5D5-4DF8-A8B7-1098D6E4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8CCA-304B-4E42-A24C-1CB10F7A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2148-1438-425F-84A7-339190CE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F027-0439-4C14-8BA8-BABDD7EA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BE58-ECF1-4CA9-AF74-3B5ED641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F5E8-1D79-49AB-AB44-3CEE05B0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image" Target="../media/image6.jpeg"/><Relationship Id="rId35" Type="http://schemas.openxmlformats.org/officeDocument/2006/relationships/image" Target="../media/image7.jpeg"/><Relationship Id="rId36" Type="http://schemas.openxmlformats.org/officeDocument/2006/relationships/image" Target="../media/image8.jpeg"/><Relationship Id="rId37" Type="http://schemas.openxmlformats.org/officeDocument/2006/relationships/image" Target="../media/image9.jpeg"/><Relationship Id="rId38" Type="http://schemas.openxmlformats.org/officeDocument/2006/relationships/slideLayout" Target="../slideLayouts/slideLayout1.xml"/><Relationship Id="rId39" Type="http://schemas.openxmlformats.org/officeDocument/2006/relationships/slideLayout" Target="../slideLayouts/slideLayout2.xml"/><Relationship Id="rId40" Type="http://schemas.openxmlformats.org/officeDocument/2006/relationships/slideLayout" Target="../slideLayouts/slideLayout3.xml"/><Relationship Id="rId41" Type="http://schemas.openxmlformats.org/officeDocument/2006/relationships/slideLayout" Target="../slideLayouts/slideLayout4.xml"/><Relationship Id="rId42" Type="http://schemas.openxmlformats.org/officeDocument/2006/relationships/slideLayout" Target="../slideLayouts/slideLayout5.xml"/><Relationship Id="rId43" Type="http://schemas.openxmlformats.org/officeDocument/2006/relationships/slideLayout" Target="../slideLayouts/slideLayout6.xml"/><Relationship Id="rId44" Type="http://schemas.openxmlformats.org/officeDocument/2006/relationships/slideLayout" Target="../slideLayouts/slideLayout7.xml"/><Relationship Id="rId45" Type="http://schemas.openxmlformats.org/officeDocument/2006/relationships/slideLayout" Target="../slideLayouts/slideLayout8.xml"/><Relationship Id="rId46" Type="http://schemas.openxmlformats.org/officeDocument/2006/relationships/slideLayout" Target="../slideLayouts/slideLayout9.xml"/><Relationship Id="rId47" Type="http://schemas.openxmlformats.org/officeDocument/2006/relationships/slideLayout" Target="../slideLayouts/slideLayout10.xml"/><Relationship Id="rId48" Type="http://schemas.openxmlformats.org/officeDocument/2006/relationships/slideLayout" Target="../slideLayouts/slideLayout11.xml"/><Relationship Id="rId4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6.jpeg"/><Relationship Id="rId32" Type="http://schemas.openxmlformats.org/officeDocument/2006/relationships/image" Target="../media/image7.jpeg"/><Relationship Id="rId33" Type="http://schemas.openxmlformats.org/officeDocument/2006/relationships/image" Target="../media/image8.jpeg"/><Relationship Id="rId34" Type="http://schemas.openxmlformats.org/officeDocument/2006/relationships/image" Target="../media/image9.jpeg"/><Relationship Id="rId35" Type="http://schemas.openxmlformats.org/officeDocument/2006/relationships/slideLayout" Target="../slideLayouts/slideLayout13.xml"/><Relationship Id="rId36" Type="http://schemas.openxmlformats.org/officeDocument/2006/relationships/slideLayout" Target="../slideLayouts/slideLayout14.xml"/><Relationship Id="rId37" Type="http://schemas.openxmlformats.org/officeDocument/2006/relationships/slideLayout" Target="../slideLayouts/slideLayout15.xml"/><Relationship Id="rId38" Type="http://schemas.openxmlformats.org/officeDocument/2006/relationships/slideLayout" Target="../slideLayouts/slideLayout16.xml"/><Relationship Id="rId39" Type="http://schemas.openxmlformats.org/officeDocument/2006/relationships/slideLayout" Target="../slideLayouts/slideLayout17.xml"/><Relationship Id="rId40" Type="http://schemas.openxmlformats.org/officeDocument/2006/relationships/slideLayout" Target="../slideLayouts/slideLayout18.xml"/><Relationship Id="rId41" Type="http://schemas.openxmlformats.org/officeDocument/2006/relationships/slideLayout" Target="../slideLayouts/slideLayout19.xml"/><Relationship Id="rId42" Type="http://schemas.openxmlformats.org/officeDocument/2006/relationships/slideLayout" Target="../slideLayouts/slideLayout20.xml"/><Relationship Id="rId43" Type="http://schemas.openxmlformats.org/officeDocument/2006/relationships/slideLayout" Target="../slideLayouts/slideLayout21.xml"/><Relationship Id="rId44" Type="http://schemas.openxmlformats.org/officeDocument/2006/relationships/slideLayout" Target="../slideLayouts/slideLayout22.xml"/><Relationship Id="rId45" Type="http://schemas.openxmlformats.org/officeDocument/2006/relationships/slideLayout" Target="../slideLayouts/slideLayout23.xml"/><Relationship Id="rId4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F23F-0C22-4621-A9BE-CF5DDC1E431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4"/>
          <a:stretch/>
        </p:blipFill>
        <p:spPr>
          <a:xfrm>
            <a:off x="7823160" y="3276720"/>
            <a:ext cx="1320840" cy="2209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5"/>
          <a:stretch/>
        </p:blipFill>
        <p:spPr>
          <a:xfrm>
            <a:off x="7837560" y="0"/>
            <a:ext cx="130644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6"/>
          <a:stretch/>
        </p:blipFill>
        <p:spPr>
          <a:xfrm>
            <a:off x="7850160" y="5486400"/>
            <a:ext cx="1293840" cy="1371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7"/>
          <a:stretch/>
        </p:blipFill>
        <p:spPr>
          <a:xfrm>
            <a:off x="7835760" y="1752480"/>
            <a:ext cx="1384560" cy="152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8"/>
    <p:sldLayoutId id="2147483650" r:id="rId39"/>
    <p:sldLayoutId id="2147483651" r:id="rId40"/>
    <p:sldLayoutId id="2147483652" r:id="rId41"/>
    <p:sldLayoutId id="2147483653" r:id="rId42"/>
    <p:sldLayoutId id="2147483654" r:id="rId43"/>
    <p:sldLayoutId id="2147483655" r:id="rId44"/>
    <p:sldLayoutId id="2147483656" r:id="rId45"/>
    <p:sldLayoutId id="2147483657" r:id="rId46"/>
    <p:sldLayoutId id="2147483658" r:id="rId47"/>
    <p:sldLayoutId id="2147483659" r:id="rId48"/>
    <p:sldLayoutId id="2147483660" r:id="rId4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0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0260-DA17-403A-9CE8-019D39EADE9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1"/>
          <a:stretch/>
        </p:blipFill>
        <p:spPr>
          <a:xfrm>
            <a:off x="7823160" y="3276720"/>
            <a:ext cx="1320840" cy="22096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2"/>
          <a:stretch/>
        </p:blipFill>
        <p:spPr>
          <a:xfrm>
            <a:off x="7837560" y="0"/>
            <a:ext cx="1306440" cy="1828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3"/>
          <a:stretch/>
        </p:blipFill>
        <p:spPr>
          <a:xfrm>
            <a:off x="7850160" y="5486400"/>
            <a:ext cx="1293840" cy="1371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4"/>
          <a:stretch/>
        </p:blipFill>
        <p:spPr>
          <a:xfrm>
            <a:off x="7835760" y="1752480"/>
            <a:ext cx="1384560" cy="15242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5"/>
    <p:sldLayoutId id="2147483663" r:id="rId36"/>
    <p:sldLayoutId id="2147483664" r:id="rId37"/>
    <p:sldLayoutId id="2147483665" r:id="rId38"/>
    <p:sldLayoutId id="2147483666" r:id="rId39"/>
    <p:sldLayoutId id="2147483667" r:id="rId40"/>
    <p:sldLayoutId id="2147483668" r:id="rId41"/>
    <p:sldLayoutId id="2147483669" r:id="rId42"/>
    <p:sldLayoutId id="2147483670" r:id="rId43"/>
    <p:sldLayoutId id="2147483671" r:id="rId44"/>
    <p:sldLayoutId id="2147483672" r:id="rId45"/>
    <p:sldLayoutId id="2147483673" r:id="rId4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hyperlink" Target="http://www.bswusa.com/podcast.asp" TargetMode="External"/><Relationship Id="rId6" Type="http://schemas.openxmlformats.org/officeDocument/2006/relationships/image" Target="../media/image13.png"/><Relationship Id="rId7" Type="http://schemas.openxmlformats.org/officeDocument/2006/relationships/image" Target="../media/image3.png"/><Relationship Id="rId8" Type="http://schemas.openxmlformats.org/officeDocument/2006/relationships/image" Target="../media/image12.pn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adcfsms01/SoundzAbound" TargetMode="External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image" Target="../media/image15.png"/><Relationship Id="rId6" Type="http://schemas.openxmlformats.org/officeDocument/2006/relationships/hyperlink" Target="http://www.dummies.com/WileyCDA/DummiesTitle/productCd-0471748986,page-1.html" TargetMode="External"/><Relationship Id="rId7" Type="http://schemas.openxmlformats.org/officeDocument/2006/relationships/hyperlink" Target="http://www.amazon.com/dp/1590595548?tag=mwgblog-20&amp;link_code=as3&amp;creativeASIN=1590595548&amp;creative=373489&amp;camp=211189" TargetMode="External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podbean.com/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edublogs.org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shockpod.com/about2.php" TargetMode="Externa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hyperlink" Target="http://juicereceiver.sourceforge.net/faq/index.php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infotoday.com/cilmag/apr06/Eash.shtml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podcastingnews.com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schoollibraryjournal.com/article/CA6253062.html" TargetMode="External"/><Relationship Id="rId7" Type="http://schemas.openxmlformats.org/officeDocument/2006/relationships/image" Target="../media/image3.png"/><Relationship Id="rId8" Type="http://schemas.openxmlformats.org/officeDocument/2006/relationships/image" Target="../media/image12.png"/><Relationship Id="rId9" Type="http://schemas.openxmlformats.org/officeDocument/2006/relationships/hyperlink" Target="http://www.masternewmedia.org/index.html" TargetMode="External"/><Relationship Id="rId10" Type="http://schemas.openxmlformats.org/officeDocument/2006/relationships/image" Target="../media/image12.png"/><Relationship Id="rId11" Type="http://schemas.openxmlformats.org/officeDocument/2006/relationships/hyperlink" Target="http://www.masternewmedia.org/audio_music_publishing/podcasting/podcasting-and-audio-editing-tools-guide-20070311.htm" TargetMode="External"/><Relationship Id="rId12" Type="http://schemas.openxmlformats.org/officeDocument/2006/relationships/image" Target="../media/image3.png"/><Relationship Id="rId13" Type="http://schemas.openxmlformats.org/officeDocument/2006/relationships/hyperlink" Target="http://www.onlypodcasting.com/" TargetMode="External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randviewlibrary.org/" TargetMode="External"/><Relationship Id="rId3" Type="http://schemas.openxmlformats.org/officeDocument/2006/relationships/hyperlink" Target="http://www.grandviewlibrary.org/" TargetMode="External"/><Relationship Id="rId4" Type="http://schemas.openxmlformats.org/officeDocument/2006/relationships/hyperlink" Target="http://www.grandviewlibrary.org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runkle.org/Podcasts/index.html" TargetMode="External"/><Relationship Id="rId7" Type="http://schemas.openxmlformats.org/officeDocument/2006/relationships/hyperlink" Target="http://www.runkle.org/Podcasts/index.html" TargetMode="External"/><Relationship Id="rId8" Type="http://schemas.openxmlformats.org/officeDocument/2006/relationships/image" Target="../media/image3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3.png"/><Relationship Id="rId12" Type="http://schemas.openxmlformats.org/officeDocument/2006/relationships/image" Target="../media/image12.png"/><Relationship Id="rId13" Type="http://schemas.openxmlformats.org/officeDocument/2006/relationships/hyperlink" Target="http://trantwoodelem.learnerblogs.org/" TargetMode="External"/><Relationship Id="rId14" Type="http://schemas.openxmlformats.org/officeDocument/2006/relationships/hyperlink" Target="http://trantwoodelem.learnerblogs.org/" TargetMode="External"/><Relationship Id="rId15" Type="http://schemas.openxmlformats.org/officeDocument/2006/relationships/hyperlink" Target="http://trantwoodelem.learnerblogs.org/" TargetMode="External"/><Relationship Id="rId1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wired.com/news/technology/0,69910-0.htm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hyperlink" Target="http://www.ilounge.com/index.php/articles/comments/beginners-guide-to-podcast-creation/" TargetMode="External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intelligenic.com/blog/" TargetMode="External"/><Relationship Id="rId3" Type="http://schemas.openxmlformats.org/officeDocument/2006/relationships/hyperlink" Target="http://www.intelligenic.com/blog/" TargetMode="External"/><Relationship Id="rId4" Type="http://schemas.openxmlformats.org/officeDocument/2006/relationships/hyperlink" Target="http://www.intelligenic.com/blog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wtvi.com/TEKS/05_06_articles/classroom-audio-podcasting.html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epnweb.org/index.php" TargetMode="External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audacity.sourceforge.net/help/documentation" TargetMode="External"/><Relationship Id="rId3" Type="http://schemas.openxmlformats.org/officeDocument/2006/relationships/hyperlink" Target="http://audacity.sourceforge.net/help/documentation" TargetMode="External"/><Relationship Id="rId4" Type="http://schemas.openxmlformats.org/officeDocument/2006/relationships/hyperlink" Target="http://audacity.sourceforge.net/help/documentation" TargetMode="External"/><Relationship Id="rId5" Type="http://schemas.openxmlformats.org/officeDocument/2006/relationships/hyperlink" Target="http://audacity.sourceforge.net/manual-1.2/index.html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garageband.com/" TargetMode="External"/><Relationship Id="rId3" Type="http://schemas.openxmlformats.org/officeDocument/2006/relationships/hyperlink" Target="http://garageband.com/" TargetMode="External"/><Relationship Id="rId4" Type="http://schemas.openxmlformats.org/officeDocument/2006/relationships/hyperlink" Target="http://garageband.com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promonet.iodalliance.com/" TargetMode="External"/><Relationship Id="rId7" Type="http://schemas.openxmlformats.org/officeDocument/2006/relationships/hyperlink" Target="http://promonet.iodalliance.com/" TargetMode="External"/><Relationship Id="rId8" Type="http://schemas.openxmlformats.org/officeDocument/2006/relationships/hyperlink" Target="http://promonet.iodalliance.com/" TargetMode="External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hyperlink" Target="http://www.podseek.net/directory/podcasting/podsafe_resources.html" TargetMode="External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hambles.net/podcasting/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mpsomaha.org/willow/radio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petrterrss.eq.edu.au/home/mcrid2/67blog/?cat=2" TargetMode="Externa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hyperlink" Target="http://audacity.sourceforge.net/" TargetMode="External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3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stellar"/>
              </a:rPr>
              <a:t>Podcasting for Instruction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am William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omputer Resource Specialis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ew Castle Elementar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udacity Toolbar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milar to recording devic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ndou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ording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e a USB microphon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adset combo for one pers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rger microphone on a stand for group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5"/>
              </a:rPr>
              <a:t>http://www.bswusa.com/podcast.as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mson C03UCW USB Microphone with multipattern condens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stakes? Pause and keep goin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n edit these out lat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Samson C03UCW USB Multipattern Condenser Mic W/ Cakewalk LE"/>
          <p:cNvPicPr/>
          <p:nvPr/>
        </p:nvPicPr>
        <p:blipFill>
          <a:blip r:embed="rId9"/>
          <a:stretch/>
        </p:blipFill>
        <p:spPr>
          <a:xfrm>
            <a:off x="6324480" y="40384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diting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 audible gap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n combine several tracks together in one podcas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n add music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be careful of copyright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 copyrright-free SoundzAbound music loop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7"/>
              </a:rPr>
              <a:t>\\adcfsms01\SoundzAboun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link only works when logged in as your adult self and only inside a school buildin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cordin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ditin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orting Music fil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ing Tool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orting as MP3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ands-On Practic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cord a book talk about a recent book you have rea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sit the SoundzAbound director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wnload a music loop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dd the loop to your podcas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ort and save as an MP3 fil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rainstorm Podcast Topic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ook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dcast Solutions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chael Georgheg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dcasting for Dummies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e Morr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podcast series about podcasting: </a:t>
            </a:r>
            <a:r>
              <a:rPr b="1" lang="en-US" sz="2000" spc="-1" strike="noStrike" u="sng">
                <a:solidFill>
                  <a:srgbClr val="f0b854"/>
                </a:solidFill>
                <a:uFillTx/>
                <a:latin typeface="Times New Roman"/>
                <a:hlinkClick r:id="rId6"/>
              </a:rPr>
              <a:t>http://www.dummies.com/WileyCDA/DummiesTitle/productCd-0471748986,page-1.htm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8320" y="304920"/>
            <a:ext cx="2165400" cy="2590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Podcasting For Dummies"/>
          <p:cNvPicPr/>
          <p:nvPr/>
        </p:nvPicPr>
        <p:blipFill>
          <a:blip r:embed="rId9"/>
          <a:stretch/>
        </p:blipFill>
        <p:spPr>
          <a:xfrm>
            <a:off x="5410080" y="3124080"/>
            <a:ext cx="1905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dcast Hosting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dBean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100MB free storage-sometimes blocked at school for uploading)</a:t>
            </a:r>
            <a:br>
              <a:rPr sz="2400"/>
            </a:br>
            <a:r>
              <a:rPr b="1" lang="en-US" sz="2800" spc="-1" strike="noStrike" u="sng">
                <a:solidFill>
                  <a:srgbClr val="f0b854"/>
                </a:solidFill>
                <a:uFillTx/>
                <a:latin typeface="Times New Roman"/>
                <a:hlinkClick r:id="rId2"/>
              </a:rPr>
              <a:t>http://www.podbean.com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duBlogs (can be quirky and run slow)</a:t>
            </a:r>
            <a:br>
              <a:rPr sz="2800"/>
            </a:br>
            <a:r>
              <a:rPr b="1" lang="en-US" sz="2800" spc="-1" strike="noStrike" u="sng">
                <a:solidFill>
                  <a:srgbClr val="f0b854"/>
                </a:solidFill>
                <a:uFillTx/>
                <a:latin typeface="Times New Roman"/>
                <a:hlinkClick r:id="rId4"/>
              </a:rPr>
              <a:t>http://edublogs.org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ckPod </a:t>
            </a:r>
            <a:r>
              <a:rPr b="1" lang="en-US" sz="2800" spc="-1" strike="noStrike" u="sng">
                <a:solidFill>
                  <a:srgbClr val="f0b854"/>
                </a:solidFill>
                <a:uFillTx/>
                <a:latin typeface="Times New Roman"/>
                <a:hlinkClick r:id="rId6"/>
              </a:rPr>
              <a:t>http://www.shockpod.com/about2.ph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wango (100 MB free) http://www.twango.com/?nm=1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logger http://www.blogger.com/star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ores of other Blog sit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dcast Subscribing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Tunes (free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most necessar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n’t need an iPod—only a comput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ssible installation at school….contact C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uice (free) </a:t>
            </a:r>
            <a:r>
              <a:rPr b="1" lang="en-US" sz="3200" spc="-1" strike="noStrike" u="sng">
                <a:solidFill>
                  <a:srgbClr val="f0b854"/>
                </a:solidFill>
                <a:uFillTx/>
                <a:latin typeface="Times New Roman"/>
                <a:hlinkClick r:id="rId6"/>
              </a:rPr>
              <a:t>http://juicereceiver.sourceforge.net/faq/index.php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zens of other sit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 on the Web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dcasting 101 for K-12 Librarians </a:t>
            </a: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2"/>
              </a:rPr>
              <a:t>http://www.infotoday.com/cilmag/apr06/Eash.shtm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dcasting News </a:t>
            </a: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4"/>
              </a:rPr>
              <a:t>http://www.podcastingnews.com/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ell Me a Story: A media specialist promotes reading, with podcas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6"/>
              </a:rPr>
              <a:t>http://www.schoollibraryjournal.com/article/CA6253062.htm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bin Good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0b854"/>
                </a:solidFill>
                <a:uFillTx/>
                <a:latin typeface="Times New Roman"/>
                <a:hlinkClick r:id="rId9"/>
              </a:rPr>
              <a:t>http://www.masternewmedia.org/index.htm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0b854"/>
                </a:solidFill>
                <a:uFillTx/>
                <a:latin typeface="Times New Roman"/>
                <a:hlinkClick r:id="rId11"/>
              </a:rPr>
              <a:t>http://www.masternewmedia.org/audio_music_publishing/podcasting/podcasting-and-audio-editing-tools-guide-20070311.ht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ly Podcasts.com </a:t>
            </a: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13"/>
              </a:rPr>
              <a:t>http://www.onlypodcasting.com/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Podcasting?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udio and/or video files available on the Interne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les contain information or instruction or entertainment or music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les can be downloaded to a computer or MP3 devic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ample Student Podcast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ndview Library </a:t>
            </a:r>
            <a:r>
              <a:rPr b="1" lang="en-US" sz="2800" spc="-1" strike="noStrike" u="sng">
                <a:solidFill>
                  <a:srgbClr val="f0b854"/>
                </a:solidFill>
                <a:uFillTx/>
                <a:latin typeface="Times New Roman"/>
                <a:hlinkClick r:id="rId2"/>
              </a:rPr>
              <a:t>http://</a:t>
            </a:r>
            <a:r>
              <a:rPr b="1" lang="en-US" sz="2800" spc="-1" strike="noStrike" u="sng">
                <a:solidFill>
                  <a:srgbClr val="f0b854"/>
                </a:solidFill>
                <a:uFillTx/>
                <a:latin typeface="Times New Roman"/>
                <a:hlinkClick r:id="rId3"/>
              </a:rPr>
              <a:t>www.grandviewlibrary.org</a:t>
            </a:r>
            <a:r>
              <a:rPr b="1" lang="en-US" sz="2800" spc="-1" strike="noStrike" u="sng">
                <a:solidFill>
                  <a:srgbClr val="f0b854"/>
                </a:solidFill>
                <a:uFillTx/>
                <a:latin typeface="Times New Roman"/>
                <a:hlinkClick r:id="rId4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rookline Book Reviews </a:t>
            </a:r>
            <a:r>
              <a:rPr b="1" lang="en-US" sz="2800" spc="-1" strike="noStrike" u="sng">
                <a:solidFill>
                  <a:srgbClr val="f0b854"/>
                </a:solidFill>
                <a:uFillTx/>
                <a:latin typeface="Times New Roman"/>
                <a:hlinkClick r:id="rId6"/>
              </a:rPr>
              <a:t>http://</a:t>
            </a:r>
            <a:r>
              <a:rPr b="1" lang="en-US" sz="2800" spc="-1" strike="noStrike" u="sng">
                <a:solidFill>
                  <a:srgbClr val="f0b854"/>
                </a:solidFill>
                <a:uFillTx/>
                <a:latin typeface="Times New Roman"/>
                <a:hlinkClick r:id="rId7"/>
              </a:rPr>
              <a:t>www.runkle.org/Podcasts/index.htm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w Castle Book Talks and Civil War New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mples in SharePoi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nk from School’s Web Sit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ntwood Elementar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13"/>
              </a:rPr>
              <a:t>http://</a:t>
            </a: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14"/>
              </a:rPr>
              <a:t>trantwoodelem.learnerblogs.org</a:t>
            </a: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15"/>
              </a:rPr>
              <a:t>/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 Onlin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0b854"/>
                </a:solidFill>
                <a:uFillTx/>
                <a:latin typeface="Times New Roman"/>
                <a:hlinkClick r:id="rId2"/>
              </a:rPr>
              <a:t>http://www.wired.com/news/technology/0,69910-0.htm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ttp://podcasting101.pbwiki.com/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ttp://podcasts.yahoo.com/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ttp://www.podcastalley.com/index.php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0b854"/>
                </a:solidFill>
                <a:uFillTx/>
                <a:latin typeface="Times New Roman"/>
                <a:hlinkClick r:id="rId7"/>
              </a:rPr>
              <a:t>http://www.ilounge.com/index.php/articles/comments/beginners-guide-to-podcast-creation/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 Onlin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idCast: Podcasting for Instruction Ideas </a:t>
            </a:r>
            <a:r>
              <a:rPr b="1" lang="en-US" sz="3200" spc="-1" strike="noStrike" u="sng">
                <a:solidFill>
                  <a:srgbClr val="f0b854"/>
                </a:solidFill>
                <a:uFillTx/>
                <a:latin typeface="Times New Roman"/>
                <a:hlinkClick r:id="rId2"/>
              </a:rPr>
              <a:t>http://</a:t>
            </a:r>
            <a:r>
              <a:rPr b="1" lang="en-US" sz="3200" spc="-1" strike="noStrike" u="sng">
                <a:solidFill>
                  <a:srgbClr val="f0b854"/>
                </a:solidFill>
                <a:uFillTx/>
                <a:latin typeface="Times New Roman"/>
                <a:hlinkClick r:id="rId3"/>
              </a:rPr>
              <a:t>www.intelligenic.com/blog</a:t>
            </a:r>
            <a:r>
              <a:rPr b="1" lang="en-US" sz="3200" spc="-1" strike="noStrike" u="sng">
                <a:solidFill>
                  <a:srgbClr val="f0b854"/>
                </a:solidFill>
                <a:uFillTx/>
                <a:latin typeface="Times New Roman"/>
                <a:hlinkClick r:id="rId4"/>
              </a:rPr>
              <a:t>/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0b854"/>
                </a:solidFill>
                <a:uFillTx/>
                <a:latin typeface="Times New Roman"/>
                <a:hlinkClick r:id="rId6"/>
              </a:rPr>
              <a:t>http://www.wtvi.com/TEKS/05_06_articles/classroom-audio-podcasting.htm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ducation Podcast Network </a:t>
            </a:r>
            <a:r>
              <a:rPr b="1" lang="en-US" sz="3200" spc="-1" strike="noStrike" u="sng">
                <a:solidFill>
                  <a:srgbClr val="f0b854"/>
                </a:solidFill>
                <a:uFillTx/>
                <a:latin typeface="Times New Roman"/>
                <a:hlinkClick r:id="rId8"/>
              </a:rPr>
              <a:t>http://www.epnweb.org/index.php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udacity - Help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udacity Documentation: </a:t>
            </a:r>
            <a:r>
              <a:rPr b="1" lang="en-US" sz="3200" spc="-1" strike="noStrike" u="sng">
                <a:solidFill>
                  <a:srgbClr val="f0b854"/>
                </a:solidFill>
                <a:uFillTx/>
                <a:latin typeface="Times New Roman"/>
                <a:hlinkClick r:id="rId2"/>
              </a:rPr>
              <a:t>http://</a:t>
            </a:r>
            <a:r>
              <a:rPr b="1" lang="en-US" sz="3200" spc="-1" strike="noStrike" u="sng">
                <a:solidFill>
                  <a:srgbClr val="f0b854"/>
                </a:solidFill>
                <a:uFillTx/>
                <a:latin typeface="Times New Roman"/>
                <a:hlinkClick r:id="rId3"/>
              </a:rPr>
              <a:t>audacity.sourceforge.net</a:t>
            </a:r>
            <a:r>
              <a:rPr b="1" lang="en-US" sz="3200" spc="-1" strike="noStrike" u="sng">
                <a:solidFill>
                  <a:srgbClr val="f0b854"/>
                </a:solidFill>
                <a:uFillTx/>
                <a:latin typeface="Times New Roman"/>
                <a:hlinkClick r:id="rId4"/>
              </a:rPr>
              <a:t>/help/documenta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udacity Reference Manual: </a:t>
            </a:r>
            <a:r>
              <a:rPr b="1" lang="en-US" sz="3200" spc="-1" strike="noStrike" u="sng">
                <a:solidFill>
                  <a:srgbClr val="f0b854"/>
                </a:solidFill>
                <a:uFillTx/>
                <a:latin typeface="Times New Roman"/>
                <a:hlinkClick r:id="rId5"/>
              </a:rPr>
              <a:t>http://audacity.sourceforge.net/manual-1.2/index.htm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utorial with Videos http://staffdev.henrico.k12.va.us/~baedkecj/audacity/indexaud.html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usic - Source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32920" y="1295280"/>
            <a:ext cx="7386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arageband (not the Mac application): </a:t>
            </a: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2"/>
              </a:rPr>
              <a:t>http://</a:t>
            </a: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3"/>
              </a:rPr>
              <a:t>garageband.com</a:t>
            </a: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4"/>
              </a:rPr>
              <a:t>/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oda Promonet: </a:t>
            </a: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6"/>
              </a:rPr>
              <a:t>http://</a:t>
            </a: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7"/>
              </a:rPr>
              <a:t>promonet.iodalliance.com</a:t>
            </a: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8"/>
              </a:rPr>
              <a:t>/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gnatune: http://www.magnatune.com/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dsafe Audio: http://www.podsafeaudio.com/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dsafe Music Network: http://music.podshow.com/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dseek's Podsafe Resources: </a:t>
            </a: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13"/>
              </a:rPr>
              <a:t>http://www.podseek.net/directory/podcasting/podsafe_resources.htm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3712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undzAbound (at school only, log in as adult self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\\adcfsms01\SoundzAboun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ue” Podcasting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w” or production on a topic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w “episodes” added periodicall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lows listeners to subscrib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eive/download new episodes automaticall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SS –Really Simple Syndication/Subscrip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 special websites/applications for RS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Tun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log sit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y do Podcasting?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w and fu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other form of publishin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ow cos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do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nects new technology (MP3 players) with instruc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ids really like the ide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ree Formats for Podcast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udio – sound onl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deo – video picture with sound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odcas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ttp://web.ics.purdue.edu/~mjcarlso/ST/ST025_Electricity.mp4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hanced – still images with soun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ttp://www.colorado.edu/news/podcasts/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are Podcasts being used i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-12 education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0b854"/>
                </a:solidFill>
                <a:uFillTx/>
                <a:latin typeface="Times New Roman"/>
                <a:hlinkClick r:id="rId2"/>
              </a:rPr>
              <a:t>http://www.shambles.net/podcasting/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0b854"/>
                </a:solidFill>
                <a:uFillTx/>
                <a:latin typeface="Times New Roman"/>
                <a:hlinkClick r:id="rId4"/>
              </a:rPr>
              <a:t>http://www.mpsomaha.org/willow/radio/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0b854"/>
                </a:solidFill>
                <a:uFillTx/>
                <a:latin typeface="Times New Roman"/>
                <a:hlinkClick r:id="rId6"/>
              </a:rPr>
              <a:t>http://www.petrterrss.eq.edu.au/home/mcrid2/67blog/?cat=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w do you get started?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ow Cost!!!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ute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crophon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udacity software (free download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nd a site to host your podcas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le server (for use only within your school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b (for Internet access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ine Steps to Podcasting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Gather the required hardware and software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Decide on the content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Practice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Record the podcast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Edit the podcast;  add music (optional)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. Test the podcast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. Publish the podcast to share your good work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. Promote the podcast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. Evaluate and learn from your mistakes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tting Started with Audacity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wnload Audacity and the LAME Encoder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0b854"/>
                </a:solidFill>
                <a:uFillTx/>
                <a:latin typeface="Times New Roman"/>
                <a:hlinkClick r:id="rId3"/>
              </a:rPr>
              <a:t>http://audacity.sourceforge.net/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all Audac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tract the LAME Encoder folder (rt. click) (do not click on anything in the folder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unch Audacity and Set Preferenc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dit – Preferenc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dio I/O – Channels: 1 (mono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ality 44100 Hz, 32-bit flo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le Formats – WAV (Microsoft 32 bit floa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K at botto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3:56:40Z</dcterms:created>
  <dc:creator>Virginia Beach City Public Schools</dc:creator>
  <dc:description/>
  <dc:language>en-US</dc:language>
  <cp:lastModifiedBy>jeakelly</cp:lastModifiedBy>
  <dcterms:modified xsi:type="dcterms:W3CDTF">2008-03-20T16:26:40Z</dcterms:modified>
  <cp:revision>29</cp:revision>
  <dc:subject/>
  <dc:title>Podcasting for Instruction</dc:title>
</cp:coreProperties>
</file>